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502-47AB-4218-8D35-DB039A2C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C4C-8C3E-4D24-A980-8A938092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53C-44CE-48E2-89FC-276C4CF9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5E66-697E-4036-B36B-724F0F4A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A01-12B7-4BAD-9AD1-0F4E045B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763-F561-49A6-B808-5CA422A2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29C-3D1F-4A52-8D1F-F4744444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7E61-51DB-4D8A-B166-C24BB475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A91-0E59-40B7-AA22-FAAF994D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9B5-347B-4934-9769-9E505D0B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9F8-0CD3-4B1B-AC41-47F40BB5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6CF-5669-40A6-9FE6-CC408C00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0539-EA44-4657-A32B-5DE9FDC51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3.jpe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13372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125 x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7 x 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4 x 0.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Objective:  Students will Divide Decimals by decimal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steps used to divide decimals by whole nu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39160" y="5794200"/>
            <a:ext cx="52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tone Sans ITC TT-SemiIta"/>
              </a:rPr>
              <a:t>What if the divisor has a decim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362320" y="228600"/>
            <a:ext cx="648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bjective:  Students will Divide Decimals by dec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71680" y="1104840"/>
            <a:ext cx="8038800" cy="1191240"/>
            <a:chOff x="571680" y="1104840"/>
            <a:chExt cx="8038800" cy="1191240"/>
          </a:xfrm>
        </p:grpSpPr>
        <p:sp>
          <p:nvSpPr>
            <p:cNvPr id="52" name=""/>
            <p:cNvSpPr/>
            <p:nvPr/>
          </p:nvSpPr>
          <p:spPr>
            <a:xfrm>
              <a:off x="571680" y="1104840"/>
              <a:ext cx="803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find the quoti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.102    6.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multiply the divisor and dividend b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Move the decimal point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place to the righ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5"/>
            <a:srcRect l="22218" t="0" r="18690" b="0"/>
            <a:stretch/>
          </p:blipFill>
          <p:spPr>
            <a:xfrm>
              <a:off x="4470480" y="1270080"/>
              <a:ext cx="26496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888840" y="2362320"/>
            <a:ext cx="1587600" cy="642600"/>
            <a:chOff x="888840" y="2362320"/>
            <a:chExt cx="1587600" cy="642600"/>
          </a:xfrm>
        </p:grpSpPr>
        <p:grpSp>
          <p:nvGrpSpPr>
            <p:cNvPr id="55" name=""/>
            <p:cNvGrpSpPr/>
            <p:nvPr/>
          </p:nvGrpSpPr>
          <p:grpSpPr>
            <a:xfrm>
              <a:off x="1219320" y="2362320"/>
              <a:ext cx="1181160" cy="642600"/>
              <a:chOff x="1219320" y="2362320"/>
              <a:chExt cx="1181160" cy="642600"/>
            </a:xfrm>
          </p:grpSpPr>
          <p:sp>
            <p:nvSpPr>
              <p:cNvPr id="56" name=""/>
              <p:cNvSpPr/>
              <p:nvPr/>
            </p:nvSpPr>
            <p:spPr>
              <a:xfrm>
                <a:off x="1219320" y="2362320"/>
                <a:ext cx="304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333440" y="255276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88840" y="2514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09760" y="25146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.1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590920" y="2514600"/>
            <a:ext cx="2590560" cy="5205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5257800" y="2355840"/>
            <a:ext cx="2057040" cy="882720"/>
            <a:chOff x="5257800" y="2355840"/>
            <a:chExt cx="2057040" cy="882720"/>
          </a:xfrm>
        </p:grpSpPr>
        <p:grpSp>
          <p:nvGrpSpPr>
            <p:cNvPr id="62" name=""/>
            <p:cNvGrpSpPr/>
            <p:nvPr/>
          </p:nvGrpSpPr>
          <p:grpSpPr>
            <a:xfrm>
              <a:off x="5257800" y="2355840"/>
              <a:ext cx="2057040" cy="642600"/>
              <a:chOff x="5257800" y="2355840"/>
              <a:chExt cx="2057040" cy="64260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5685840" y="2355840"/>
                <a:ext cx="1530000" cy="642600"/>
                <a:chOff x="5685840" y="2355840"/>
                <a:chExt cx="1530000" cy="6426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5685840" y="2355840"/>
                  <a:ext cx="394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5833440" y="2546280"/>
                  <a:ext cx="1382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5257800" y="25081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.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932800" y="2508120"/>
                <a:ext cx="138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01.0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" name="" descr=""/>
            <p:cNvPicPr/>
            <p:nvPr/>
          </p:nvPicPr>
          <p:blipFill>
            <a:blip r:embed="rId7"/>
            <a:stretch/>
          </p:blipFill>
          <p:spPr>
            <a:xfrm>
              <a:off x="5359320" y="2895480"/>
              <a:ext cx="343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8"/>
            <a:stretch/>
          </p:blipFill>
          <p:spPr>
            <a:xfrm>
              <a:off x="6222960" y="2895480"/>
              <a:ext cx="343080" cy="34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"/>
          <p:cNvGrpSpPr/>
          <p:nvPr/>
        </p:nvGrpSpPr>
        <p:grpSpPr>
          <a:xfrm>
            <a:off x="5257800" y="3429000"/>
            <a:ext cx="3390840" cy="1068120"/>
            <a:chOff x="5257800" y="3429000"/>
            <a:chExt cx="3390840" cy="1068120"/>
          </a:xfrm>
        </p:grpSpPr>
        <p:grpSp>
          <p:nvGrpSpPr>
            <p:cNvPr id="71" name=""/>
            <p:cNvGrpSpPr/>
            <p:nvPr/>
          </p:nvGrpSpPr>
          <p:grpSpPr>
            <a:xfrm>
              <a:off x="5257800" y="3854520"/>
              <a:ext cx="2057040" cy="642600"/>
              <a:chOff x="5257800" y="3854520"/>
              <a:chExt cx="2057040" cy="64260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5685840" y="3854520"/>
                <a:ext cx="1530000" cy="642600"/>
                <a:chOff x="5685840" y="3854520"/>
                <a:chExt cx="1530000" cy="6426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685840" y="3854520"/>
                  <a:ext cx="394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833440" y="4044960"/>
                  <a:ext cx="1382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>
                <a:off x="5257800" y="400680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932800" y="4006800"/>
                <a:ext cx="138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01.0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7124760" y="3429000"/>
              <a:ext cx="1523880" cy="380880"/>
            </a:xfrm>
            <a:prstGeom prst="wedgeRoundRectCallout">
              <a:avLst>
                <a:gd name="adj1" fmla="val -36351"/>
                <a:gd name="adj2" fmla="val 100833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en divid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51880" y="368316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09.5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739520" y="5638680"/>
            <a:ext cx="534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 Italic"/>
              </a:rPr>
              <a:t>Over - over and up we g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362320" y="3049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bjective:  Students will Divide Decimals by dec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090440"/>
            <a:ext cx="827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some quotients, you may need to use zeros as plac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5680" y="191628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holder in Divid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838080" y="2362320"/>
            <a:ext cx="2057400" cy="459720"/>
            <a:chOff x="838080" y="2362320"/>
            <a:chExt cx="2057400" cy="459720"/>
          </a:xfrm>
        </p:grpSpPr>
        <p:sp>
          <p:nvSpPr>
            <p:cNvPr id="88" name=""/>
            <p:cNvSpPr/>
            <p:nvPr/>
          </p:nvSpPr>
          <p:spPr>
            <a:xfrm>
              <a:off x="838080" y="2362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   1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5"/>
            <a:srcRect l="22218" t="0" r="18690" b="0"/>
            <a:stretch/>
          </p:blipFill>
          <p:spPr>
            <a:xfrm>
              <a:off x="1130400" y="2476440"/>
              <a:ext cx="264960" cy="22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" descr=""/>
          <p:cNvPicPr/>
          <p:nvPr/>
        </p:nvPicPr>
        <p:blipFill>
          <a:blip r:embed="rId6"/>
          <a:srcRect l="-13140" t="9991" r="0" b="0"/>
          <a:stretch/>
        </p:blipFill>
        <p:spPr>
          <a:xfrm>
            <a:off x="1066680" y="2895480"/>
            <a:ext cx="349200" cy="6858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457200" y="3581280"/>
            <a:ext cx="2057400" cy="642600"/>
            <a:chOff x="457200" y="3581280"/>
            <a:chExt cx="2057400" cy="642600"/>
          </a:xfrm>
        </p:grpSpPr>
        <p:sp>
          <p:nvSpPr>
            <p:cNvPr id="92" name=""/>
            <p:cNvSpPr/>
            <p:nvPr/>
          </p:nvSpPr>
          <p:spPr>
            <a:xfrm>
              <a:off x="1131840" y="3733920"/>
              <a:ext cx="13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885960" y="3581280"/>
              <a:ext cx="765000" cy="642600"/>
              <a:chOff x="885960" y="3581280"/>
              <a:chExt cx="765000" cy="642600"/>
            </a:xfrm>
          </p:grpSpPr>
          <p:sp>
            <p:nvSpPr>
              <p:cNvPr id="94" name=""/>
              <p:cNvSpPr/>
              <p:nvPr/>
            </p:nvSpPr>
            <p:spPr>
              <a:xfrm>
                <a:off x="885960" y="3581280"/>
                <a:ext cx="39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08000" y="3772080"/>
                <a:ext cx="64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457200" y="37339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7"/>
          <a:srcRect l="-12249" t="15032" r="0" b="0"/>
          <a:stretch/>
        </p:blipFill>
        <p:spPr>
          <a:xfrm>
            <a:off x="1066680" y="4191120"/>
            <a:ext cx="346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492120" y="4813200"/>
            <a:ext cx="1260360" cy="1551960"/>
            <a:chOff x="492120" y="4813200"/>
            <a:chExt cx="1260360" cy="1551960"/>
          </a:xfrm>
        </p:grpSpPr>
        <p:grpSp>
          <p:nvGrpSpPr>
            <p:cNvPr id="99" name=""/>
            <p:cNvGrpSpPr/>
            <p:nvPr/>
          </p:nvGrpSpPr>
          <p:grpSpPr>
            <a:xfrm>
              <a:off x="860400" y="4997520"/>
              <a:ext cx="765000" cy="642600"/>
              <a:chOff x="860400" y="4997520"/>
              <a:chExt cx="765000" cy="642600"/>
            </a:xfrm>
          </p:grpSpPr>
          <p:sp>
            <p:nvSpPr>
              <p:cNvPr id="100" name=""/>
              <p:cNvSpPr/>
              <p:nvPr/>
            </p:nvSpPr>
            <p:spPr>
              <a:xfrm>
                <a:off x="860400" y="4997520"/>
                <a:ext cx="39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82440" y="5187960"/>
                <a:ext cx="64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1068480" y="5181480"/>
              <a:ext cx="62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2120" y="518148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92240" y="59436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44520" y="59054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4813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057400" y="2895480"/>
            <a:ext cx="1523880" cy="685800"/>
          </a:xfrm>
          <a:prstGeom prst="wedgeRoundRectCallout">
            <a:avLst>
              <a:gd name="adj1" fmla="val -71356"/>
              <a:gd name="adj2" fmla="val 10787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ero as place h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66560" y="190332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holder in Quo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3280" y="2362320"/>
            <a:ext cx="1704600" cy="459720"/>
            <a:chOff x="5183280" y="2362320"/>
            <a:chExt cx="1704600" cy="459720"/>
          </a:xfrm>
        </p:grpSpPr>
        <p:sp>
          <p:nvSpPr>
            <p:cNvPr id="110" name=""/>
            <p:cNvSpPr/>
            <p:nvPr/>
          </p:nvSpPr>
          <p:spPr>
            <a:xfrm>
              <a:off x="5183280" y="236232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0126    1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8"/>
            <a:srcRect l="22218" t="0" r="18690" b="0"/>
            <a:stretch/>
          </p:blipFill>
          <p:spPr>
            <a:xfrm>
              <a:off x="6148440" y="2476440"/>
              <a:ext cx="264960" cy="22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" descr=""/>
          <p:cNvPicPr/>
          <p:nvPr/>
        </p:nvPicPr>
        <p:blipFill>
          <a:blip r:embed="rId9"/>
          <a:srcRect l="1114" t="9991" r="0" b="0"/>
          <a:stretch/>
        </p:blipFill>
        <p:spPr>
          <a:xfrm>
            <a:off x="6172200" y="2895480"/>
            <a:ext cx="304920" cy="6858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5257800" y="3473280"/>
            <a:ext cx="2057040" cy="642600"/>
            <a:chOff x="5257800" y="3473280"/>
            <a:chExt cx="2057040" cy="642600"/>
          </a:xfrm>
        </p:grpSpPr>
        <p:grpSp>
          <p:nvGrpSpPr>
            <p:cNvPr id="114" name=""/>
            <p:cNvGrpSpPr/>
            <p:nvPr/>
          </p:nvGrpSpPr>
          <p:grpSpPr>
            <a:xfrm>
              <a:off x="5685840" y="3473280"/>
              <a:ext cx="1530000" cy="642600"/>
              <a:chOff x="5685840" y="3473280"/>
              <a:chExt cx="1530000" cy="642600"/>
            </a:xfrm>
          </p:grpSpPr>
          <p:sp>
            <p:nvSpPr>
              <p:cNvPr id="115" name=""/>
              <p:cNvSpPr/>
              <p:nvPr/>
            </p:nvSpPr>
            <p:spPr>
              <a:xfrm>
                <a:off x="5685840" y="3473280"/>
                <a:ext cx="394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833440" y="3663720"/>
                <a:ext cx="138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257800" y="36255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32800" y="3625560"/>
              <a:ext cx="138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012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10"/>
          <a:srcRect l="-6904" t="11701" r="0" b="0"/>
          <a:stretch/>
        </p:blipFill>
        <p:spPr>
          <a:xfrm>
            <a:off x="6172200" y="4191120"/>
            <a:ext cx="330120" cy="672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074000" y="3733920"/>
            <a:ext cx="1612800" cy="685800"/>
          </a:xfrm>
          <a:prstGeom prst="wedgeRoundRectCallout">
            <a:avLst>
              <a:gd name="adj1" fmla="val -70175"/>
              <a:gd name="adj2" fmla="val 10787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ero as place ho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521320" y="4800600"/>
            <a:ext cx="2784600" cy="1551960"/>
            <a:chOff x="5521320" y="4800600"/>
            <a:chExt cx="2784600" cy="1551960"/>
          </a:xfrm>
        </p:grpSpPr>
        <p:sp>
          <p:nvSpPr>
            <p:cNvPr id="122" name=""/>
            <p:cNvSpPr/>
            <p:nvPr/>
          </p:nvSpPr>
          <p:spPr>
            <a:xfrm>
              <a:off x="5889600" y="4984920"/>
              <a:ext cx="3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12000" y="5175360"/>
              <a:ext cx="92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7680" y="5168880"/>
              <a:ext cx="220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2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21320" y="516888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88200" y="5931000"/>
              <a:ext cx="5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58928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58080" y="48006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55245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8:09:02Z</dcterms:created>
  <dc:creator>deanne elizabeth mcgrath</dc:creator>
  <dc:description/>
  <dc:language>en-US</dc:language>
  <cp:lastModifiedBy>deanne elizabeth mcgrath</cp:lastModifiedBy>
  <dcterms:modified xsi:type="dcterms:W3CDTF">2011-04-01T18:09:37Z</dcterms:modified>
  <cp:revision>1</cp:revision>
  <dc:subject/>
  <dc:title>Warm-up:</dc:title>
</cp:coreProperties>
</file>